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46C0F-A2EA-4FAB-9DCE-36DFBE62F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4271-4718-4F0C-A364-C4222377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5C16B-8928-4EAD-B78D-02A0ACB63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55E7-2302-48B8-82F7-1F48993B2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A594-81B4-45E1-9EB3-EBC7B031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3FA6-A75E-48E4-9D59-F12A1BF1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AE7B8-58CC-4673-99CB-AE85F500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3E93-FA44-414B-81CE-07F6F88B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8DB6-746A-4489-A7C9-F13BC454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54C1-3F08-400C-BAB7-907FEF23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A110-993F-40FC-B2EA-554EC20A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BA53-8F1F-4AB3-8318-F2FD5B9F2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EC44-EA39-421C-98D6-5B298AE90A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ernhardMod BT"/>
              </a:rPr>
              <a:t>Cultivating Optimism in the Classroom</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Teaching: Improving classroom instruction to improve student performance.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tter thinkers, betters citizens, better students”</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 descr=""/>
          <p:cNvPicPr/>
          <p:nvPr/>
        </p:nvPicPr>
        <p:blipFill>
          <a:blip r:embed="rId1"/>
          <a:stretch/>
        </p:blipFill>
        <p:spPr>
          <a:xfrm>
            <a:off x="3657600" y="2133720"/>
            <a:ext cx="1628640" cy="15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ernhardMod BT"/>
              </a:rPr>
              <a:t>Building Optimism</a:t>
            </a:r>
            <a:br>
              <a:rPr sz="4800"/>
            </a:br>
            <a:endParaRPr b="0" lang="en-US" sz="4800" spc="-1" strike="noStrike">
              <a:solidFill>
                <a:srgbClr val="ffff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need to believe in the Fu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ng in your education today with a pay off later is hard for some students to believe, as they do not  believe in the future.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tivation requires optimism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job as educators it to help students understand the future and their ability to change i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57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radley Hand ITC"/>
              </a:rPr>
              <a:t>“</a:t>
            </a:r>
            <a:r>
              <a:rPr b="0" lang="en-US" sz="4400" spc="-1" strike="noStrike">
                <a:solidFill>
                  <a:srgbClr val="ffff00"/>
                </a:solidFill>
                <a:latin typeface="Bradley Hand ITC"/>
              </a:rPr>
              <a:t>Students are motivated to put forth their best effort when they have faith in the future and themselves.”</a:t>
            </a:r>
            <a:br>
              <a:rPr sz="4400"/>
            </a:br>
            <a:br>
              <a:rPr sz="4400"/>
            </a:b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4800600" y="5334120"/>
            <a:ext cx="3124080" cy="76176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a:rPr>
              <a:t>Richard Sagor</a:t>
            </a:r>
            <a:endParaRPr b="0" lang="en-US" sz="3600" spc="-1" strike="noStrike">
              <a:solidFill>
                <a:srgbClr val="ffffff"/>
              </a:solidFill>
              <a:latin typeface="Times New Roman"/>
            </a:endParaRPr>
          </a:p>
        </p:txBody>
      </p:sp>
      <p:sp>
        <p:nvSpPr>
          <p:cNvPr id="48" name=""/>
          <p:cNvSpPr/>
          <p:nvPr/>
        </p:nvSpPr>
        <p:spPr>
          <a:xfrm>
            <a:off x="1786320" y="685800"/>
            <a:ext cx="5685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Think- Pair-Share</a:t>
            </a:r>
            <a:endParaRPr b="0" lang="en-US" sz="5400" spc="-1" strike="noStrike">
              <a:solidFill>
                <a:srgbClr val="ffffff"/>
              </a:solidFill>
              <a:latin typeface="Times New Roman"/>
            </a:endParaRPr>
          </a:p>
        </p:txBody>
      </p:sp>
      <p:pic>
        <p:nvPicPr>
          <p:cNvPr id="49" name="" descr=""/>
          <p:cNvPicPr/>
          <p:nvPr/>
        </p:nvPicPr>
        <p:blipFill>
          <a:blip r:embed="rId1"/>
          <a:stretch/>
        </p:blipFill>
        <p:spPr>
          <a:xfrm>
            <a:off x="533520" y="4648320"/>
            <a:ext cx="2246040" cy="177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0"/>
            <a:ext cx="91440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Garamond"/>
              </a:rPr>
              <a:t>How can WE as effective teachers, motivate ALL students to strive for the best?</a:t>
            </a:r>
            <a:endParaRPr b="0" lang="en-US" sz="4800" spc="-1" strike="noStrike">
              <a:solidFill>
                <a:srgbClr val="ffff00"/>
              </a:solidFill>
              <a:latin typeface="Times New Roman"/>
            </a:endParaRPr>
          </a:p>
        </p:txBody>
      </p:sp>
      <p:pic>
        <p:nvPicPr>
          <p:cNvPr id="51" name="" descr=""/>
          <p:cNvPicPr/>
          <p:nvPr/>
        </p:nvPicPr>
        <p:blipFill>
          <a:blip r:embed="rId1"/>
          <a:stretch/>
        </p:blipFill>
        <p:spPr>
          <a:xfrm>
            <a:off x="3886200" y="838080"/>
            <a:ext cx="14954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1-</a:t>
            </a:r>
            <a:r>
              <a:rPr b="0" lang="en-US" sz="4000" spc="-1" strike="noStrike">
                <a:solidFill>
                  <a:srgbClr val="ffff00"/>
                </a:solidFill>
                <a:latin typeface="Times New Roman"/>
              </a:rPr>
              <a:t> </a:t>
            </a:r>
            <a:r>
              <a:rPr b="0" lang="en-US" sz="4000" spc="-1" strike="noStrike">
                <a:solidFill>
                  <a:srgbClr val="ff0000"/>
                </a:solidFill>
                <a:latin typeface="Times New Roman"/>
              </a:rPr>
              <a:t>Faith in Building the Future</a:t>
            </a: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t is easier for students to invest in their future when they see progress in their day to day life.</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ome children are used to seeing despair in their everyday life. So it is hard for them to believe that there is a better tomorrow for them.</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Legitimate reasons for despair are poverty, chemical dependency, bigotry, family break-ups, etc.</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ability to be optimistic in the future goes hand in hand with the successfulness of their lives toda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ilding Block 2 –</a:t>
            </a:r>
            <a:r>
              <a:rPr b="0" lang="en-US" sz="3600" spc="-1" strike="noStrike">
                <a:solidFill>
                  <a:srgbClr val="ffff00"/>
                </a:solidFill>
                <a:latin typeface="Times New Roman"/>
              </a:rPr>
              <a:t> </a:t>
            </a:r>
            <a:r>
              <a:rPr b="0" lang="en-US" sz="3600" spc="-1" strike="noStrike">
                <a:solidFill>
                  <a:srgbClr val="ff0000"/>
                </a:solidFill>
                <a:latin typeface="Times New Roman"/>
              </a:rPr>
              <a:t>Personal Efficacy</a:t>
            </a:r>
            <a:endParaRPr b="0" lang="en-US" sz="36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t takes more than faith to commit to a difficult pursuit.</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ptimistic people usually have fortitude to achieve their goals for a successful futur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ur job is to teach students to have efficacy or a deep belief in their own abilitie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o teach students to recognize their abilities is to help them to improve their confidence in their own abiliti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nhardMod BT"/>
              </a:rPr>
              <a:t>Empowering Preschoolers</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owering students at a young age allows them to learn about accomplishments and to help recognize their potenti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ing students to take ownership of their education at an early age is one way to build confiden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nhardMod BT"/>
              </a:rPr>
              <a:t>Middle School Reformers</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hool in California conducted a lunchtime discussion group made up of diverse student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meet to discuss concerns about their school.  They performed research and collected data.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came to the conclusion that some discipline ideas were not working and that more positive reinforcements would benefit the school.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perience proved to be helpful for the students who performed the research as they were able to present their research in an articulate and confident manner.  Having ownership of the experience was pertinen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ernhardMod BT"/>
              </a:rPr>
              <a:t>Great Expectations</a:t>
            </a:r>
            <a:endParaRPr b="0" lang="en-US" sz="6600" spc="-1" strike="noStrike">
              <a:solidFill>
                <a:srgbClr val="ffff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ng people are more likely to invest their energy in pursuit of what they view to be an achievable dream than in what they sense is futilit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ous encouragement of students is necessary for their succes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eachers we need to nurture optimism by creating routine educational experiences which lead to hard work and success.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ors need to provide the road to possibiliti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01:35:30Z</dcterms:created>
  <dc:creator>Regina Carroll</dc:creator>
  <dc:description/>
  <dc:language>en-US</dc:language>
  <cp:lastModifiedBy>North Rockland High School</cp:lastModifiedBy>
  <dcterms:modified xsi:type="dcterms:W3CDTF">2010-01-27T12:19:48Z</dcterms:modified>
  <cp:revision>10</cp:revision>
  <dc:subject/>
  <dc:title>“Students are motivated to put forth their best effort when they have faith in the future and themselves.”  Richard Sagor</dc:title>
</cp:coreProperties>
</file>